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8B65-5B8E-4335-8920-5B2D490F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BE44-AA56-43F4-97CB-2B81144AB1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D6C2-1C47-4801-A6E2-62B93D0135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0EB0-F705-4682-9776-6A2E1BC108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0562-98E0-45FC-AB3F-EC3074F75C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FAD6-DFF1-4413-A3B8-7E23E794F8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26188-8D0D-47F8-B5AA-E53E681480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7622-41B8-4C51-92A4-05EFE46CF5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CC29-DE42-4E4D-8DDF-AFE8653E79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3CB9-50AD-44A8-8967-D1D9D0BF26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3831-0995-4261-8188-502104AC3D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0AC11F-F963-4A98-A1A2-9F9C9139D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107-8252-47F7-AA98-54F1B3EC78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3A7AA-09E8-4F9C-94EE-AB01B7DF29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01AF7-FFAE-4BC4-A3A1-74A8110AEC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BD66D9-8951-45B7-B94D-54513C43BA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4E4A6-6579-48A0-84C4-62EF442B04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3F929-0E10-47CC-8051-22B4A7C8F8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9E01D1-FAEA-4AC3-B25E-94F30F8FD0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2D11D-3139-41FF-9747-3089E8BD34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D86C3-5F64-464B-8CEA-D26313173DE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B1815-0656-4771-93D0-D5B9578B18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E305A-F866-4689-8F34-883968F17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2019-945F-47C9-BE5C-67CAFE6EAA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AC13D-B575-4FDF-858D-9FE3B44F4C6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F00B-52E4-4E20-B911-6B2E2F0202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6314-F06B-4FE3-AE52-F4DB8DAEC9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43A7-08F0-4BBC-A78F-450FC1F93D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976AE-F0BC-4849-A010-01D1C0B666D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33A4-CB3D-43BC-9378-FD57A278FD4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4C5A-2699-4E49-9284-F89DE5FE54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FB56-054F-43FC-951F-81B68ED30C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00AD-5D9A-4223-8719-A9313908DD2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3583-797F-483F-AA25-B982635F6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7A4D-7B6A-4AE8-8384-27173315BAB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C5033-C475-4D44-8FEA-70B1065D79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B09A-8ACB-44F8-911A-0DBCF1B0E8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2934-B686-459B-A178-63D6EC6AF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A10A-8F95-4F2B-93A0-03EBF39976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A9CF-89A6-4C0D-9897-3D897C075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B8E7-DEF5-4567-B3A8-93F4F3A9BF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2710-3C7D-4FB9-924C-27584640A7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CF4E-967E-4F91-A57E-375864059D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9699-61BD-4CE6-B26F-DB6145F5D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652E-CB4E-4226-BF78-F0CB457BB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F237-C2C7-4B34-8D56-33C265E58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70F6-FC0E-4890-8D6B-EA2C3A382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6AB2-4699-47A0-9F1B-D585E2E8C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8C59-221F-4402-8F1C-BFACA650D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FE75-80D0-4E43-B3B9-168B994639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20F-9ED7-4A1B-8443-488277FCBD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ECF-EDA1-4B30-AA20-B25B36DD03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45F-0E56-4912-8FE7-62D299E2F1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731-3B5C-4A1F-A385-503CBD1627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352-3818-4414-8F22-93E2DFD52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EAD8-7DFF-482F-BD0F-C95288CC1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9C6-CF4E-4EFE-99E7-9A6E763AB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F22-A3AE-4E5A-87C9-E991EF43F8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216-2698-4717-B552-156CB77A88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866-63EF-440A-AA5C-E8557CA5A9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667-4802-43F5-96AC-350CEAC5EC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7DF-F257-4015-A759-4A03E7FDC1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702-E051-47A5-B566-4F3CBD7B50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9C4F9-E841-42EC-94CC-AC9F1D3D2C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6E7DC-72C4-4972-AEF8-4142ABE181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1586-E673-4DF7-A793-90FB98167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EDBB-725C-434D-8ECA-CD6D5BED31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6FD4-4621-4D93-8BBD-0354EBFB2F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DBDED-A772-455C-944D-909EC97EC4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F15C5-D3F3-4DC7-B71D-ADB6059B0B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204F-B719-4A38-B845-0F5E1D1F43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F17EB-5BB0-423C-960A-67C09E92B3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1EFF-9003-4EE4-BE8A-2838C7A578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47B6A-77DA-484E-9218-80A5D5E4D8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DC8B7-6C58-4702-9DD8-4107646D27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D4E12-DDFD-4912-ABB5-706303DEBA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D494C-ADA7-43CE-94C2-1FEBE3604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CD51-910E-42C8-97D3-9A750EDA43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BC50F-E73B-4F5F-8D91-233E585464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13A23-C4B1-4043-A391-21259F862B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31958-9373-45E7-973A-36AB5A95D9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992E9-10F9-4DF0-B517-7A58997190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69D67-25CF-4481-83EE-0A3FCE1FD2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208E0-6269-4389-912D-2E7A2940A1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46CD2-0C93-4FD7-8673-D85CD70271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FC67F-CE53-4EED-AD33-0BAA9E2CE0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97EAC-96C6-4DEB-B5FB-D4C0336C08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EE7FE-F9C8-41B6-8A52-6059C9130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C7EA-8459-4C0D-98EC-003DCB5DA9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7C476-A0CF-4EE8-94B6-A3B2AF2B46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AA6F-4322-4A98-A854-32686A8B54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0278-54F8-4205-B24F-C67BC9D69C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A320-E9BF-42C6-B3C1-58B2C1D555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CEFD-2E0F-4CD3-9215-A90B7AC044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3BA0-6174-4FE3-9F1C-3BA89C3342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7338-AA73-4119-AE8C-55FD1FE699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E001-AEA7-431F-B4A4-327EA71A01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6972-6933-4677-A612-3668B230B4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A575-897C-4F3D-B030-B40F3E749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749E-D8D0-4C2F-96FD-A11466C8AD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DFE3-4EEA-464D-A930-DD31A326A1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EFAB-6EFF-4122-B421-9ECDC8E520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2FD1-3953-4A32-B73E-940C4ECF80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B937D-CDE3-45C4-99A3-C69D80F61C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099BA-6B6C-4BAE-9933-5F11121455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F1E90-3E04-44A8-A6BE-EF69F52F33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39AC7-F21E-4378-8530-751595C749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9CA1E-3CE1-4E28-AFD5-43274CE96D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A0B4D-D5FA-4F27-A8CD-7BA3038532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21894-7705-449C-8E9E-20544E7E0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0096-0134-47B6-826F-DABA59607B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6809A-7B7E-43A9-89AB-0EE6FC600D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99F1E-7D4D-488B-A7FD-E87CBD01CF9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A48CD-A694-45F4-B632-C53B1A2B81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F748B-BAD5-4193-A1A1-D65A724703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AA334-7D4B-4EEC-A3C7-5329C992DA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24279-C5EE-4068-9E59-0C3AEA3061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65719-22F5-40AF-82D2-86230BDBD4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B04A0-2A1F-4F34-813D-9E942C6520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F1013-220F-4C00-882A-578462B863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4ED13-B464-410A-B780-31352C7A7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470B-BB07-45C0-A0DB-03756D88B4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8328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4804E-C085-47C4-8FE8-A1EECAFCF1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DACCC-67CB-4361-9DDE-CC7E40CA42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408F6-D3F0-469F-A95F-538A9180C3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FBC5B-8D1F-4985-AFBF-5663ECA576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5900400"/>
            <a:ext cx="775656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A8FBD-8DB0-4D25-A1DE-6DBBE5D327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0560" y="403848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0560" y="5900400"/>
            <a:ext cx="378504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838F0-EAAB-4433-A0DA-18C654B2D77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084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1000" y="403848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084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1000" y="5900400"/>
            <a:ext cx="249732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AAC32-0A90-486C-913E-AD03660042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CBA3-BC71-4A34-B65E-A27F588665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FEC6-6F83-46C1-B34B-F9594E55A1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722F-69B7-4A8A-ADE6-1ED88118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44956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400800"/>
            <a:ext cx="4800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88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1BCB4-61C4-45C0-8057-3D5F76695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2280" y="1752480"/>
            <a:ext cx="8839440" cy="4800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380880"/>
            <a:ext cx="8305920" cy="1143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00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371600" y="2743200"/>
            <a:ext cx="67658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3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53448-E071-4704-9A2E-4CEBCC350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14"/>
          </p:nvPr>
        </p:nvSpPr>
        <p:spPr>
          <a:xfrm>
            <a:off x="685800" y="6400440"/>
            <a:ext cx="5470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 12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5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F96AB-0976-47CB-9521-6E7548BB83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388620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400800"/>
            <a:ext cx="518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78B8D-A931-437B-ABC5-718A9D263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03848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400800"/>
            <a:ext cx="5486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5B98E-819F-4911-AABD-C7BD74EB27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80060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4"/>
          </p:nvPr>
        </p:nvSpPr>
        <p:spPr>
          <a:xfrm>
            <a:off x="685440" y="6400440"/>
            <a:ext cx="47847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 9  Cascode Stages and Current Mi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AD362-1AEA-46AF-8D4F-99895458A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80060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6"/>
          </p:nvPr>
        </p:nvSpPr>
        <p:spPr>
          <a:xfrm>
            <a:off x="685440" y="6400800"/>
            <a:ext cx="478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 10 Differential Amp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7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BE00C-A8E7-4156-81B9-492388275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800600"/>
            <a:ext cx="775656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8"/>
          </p:nvPr>
        </p:nvSpPr>
        <p:spPr>
          <a:xfrm>
            <a:off x="685440" y="6400800"/>
            <a:ext cx="478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 11 Frequency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9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C59A8-A853-4D77-81DE-80716E41DB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40080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Num" idx="10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117D-A352-4C5C-8F87-6A74BBC23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647960"/>
            <a:ext cx="775656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640080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1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967FA-DCB1-42C2-8E96-974193FF12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143000"/>
            <a:ext cx="7543800" cy="320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32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2438280"/>
            <a:ext cx="822960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762120"/>
            <a:ext cx="8305920" cy="1143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1376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400440"/>
            <a:ext cx="18892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0CE06-87F5-443F-9459-6952AA7FBE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B0340-5111-4C73-8046-F48704154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480" y="1454040"/>
            <a:ext cx="3676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ance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itic Capac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o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1417680"/>
            <a:ext cx="3676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ucto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c Ind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f Ground Sh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ed Spi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4480" y="3886200"/>
            <a:ext cx="4056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fo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f Coupling Capac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e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52960" y="3814920"/>
            <a:ext cx="3676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 J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Var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acto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34FEC-6611-4D26-B735-0DC8C909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27288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ic Capacitance of Integrated I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7080" y="4324320"/>
            <a:ext cx="77724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ar spiral inductor suffers from parasitic capacitance because the metal lines of the inductor exhibit parallel plate capacitance and adjacent turns bear fring capacitan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371600" y="1541520"/>
            <a:ext cx="6558120" cy="2573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85800" y="1204920"/>
            <a:ext cx="324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-Plate capac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87920" y="1143000"/>
            <a:ext cx="3098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winding capaci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5DDF-A283-40A9-A7A9-06A9DC61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of Parasitic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7080" y="5764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49200" y="1144440"/>
            <a:ext cx="8274240" cy="13716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046160" y="2676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inductor's distributed capacitance to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78200" y="484344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8520" y="3181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implify the analysis we make two assum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Each two  inductor segments have a mutual coupling of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The coupling is strong enough that M can be assumed approximately equal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4800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 across each inductor seg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6120" y="5149800"/>
            <a:ext cx="53290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EB85-CEBD-4F18-A3C9-989D334D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of Parasitic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05080" y="58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705040" y="5543640"/>
            <a:ext cx="2286000" cy="9144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778200" y="484344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2560" y="580716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nce =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963880" y="1155600"/>
            <a:ext cx="2462040" cy="914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2920" y="1143000"/>
            <a:ext cx="30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M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u 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2959200" y="270684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2920" y="2286000"/>
            <a:ext cx="602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ergy stored in node capacitance is: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2782800" y="3549600"/>
            <a:ext cx="3834000" cy="1600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3438360"/>
            <a:ext cx="260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nergy stored on all of the unit capacitances = 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2240" y="5113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&gt;infinity an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&gt;0 such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equal to total wire capacitance: 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A31A-1A29-46E2-9AA2-49A913FD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Mechanisms: Metal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93800" y="5727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55720" y="1371600"/>
            <a:ext cx="5715000" cy="28018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685800" y="4297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l resistance Rs of spiral inductor of inductanc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1528920" y="5100480"/>
            <a:ext cx="1623960" cy="8431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909960" y="5197320"/>
            <a:ext cx="5029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= Quality factor of i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sure of loss in inductor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9B71D-83DC-455B-A37B-FC4F3632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Mechanisms: Skin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06520" y="32529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istribution in a conductor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Low frequency (b) High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9960" y="5664240"/>
            <a:ext cx="8016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4525920"/>
            <a:ext cx="3886200" cy="1212840"/>
          </a:xfrm>
          <a:prstGeom prst="roundRect">
            <a:avLst>
              <a:gd name="adj" fmla="val 1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792440" y="1108080"/>
            <a:ext cx="5206680" cy="20574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927080" y="4584600"/>
            <a:ext cx="1997280" cy="1125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6781680" y="4584600"/>
            <a:ext cx="1739880" cy="10843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49200" y="4906800"/>
            <a:ext cx="2057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depth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6960" y="4525920"/>
            <a:ext cx="3886200" cy="1212840"/>
          </a:xfrm>
          <a:prstGeom prst="roundRect">
            <a:avLst>
              <a:gd name="adj" fmla="val 1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94280" y="4618080"/>
            <a:ext cx="1863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resistance 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B7E2C-908D-46B2-85B9-C28FA538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Effect: Current Crowding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6600" y="2927520"/>
            <a:ext cx="940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Current distribution in adjacent turns  (b) Detailed view of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1240" y="484992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1680" y="3876840"/>
            <a:ext cx="4114800" cy="1035000"/>
          </a:xfrm>
          <a:prstGeom prst="roundRect">
            <a:avLst>
              <a:gd name="adj" fmla="val 1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3876840"/>
            <a:ext cx="3886200" cy="1035000"/>
          </a:xfrm>
          <a:prstGeom prst="roundRect">
            <a:avLst>
              <a:gd name="adj" fmla="val 1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36600" y="879480"/>
            <a:ext cx="8686800" cy="2108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65120" y="3916440"/>
            <a:ext cx="3722760" cy="9745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5357880" y="3916440"/>
            <a:ext cx="2921040" cy="9396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30040" y="5029200"/>
            <a:ext cx="845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cr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magnetic field produced by adjacent turn indu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dy current, causing unequal distribution of current acros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or width, hence altering the effective resistance of the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-23760" y="3432240"/>
            <a:ext cx="940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the observation in [7,8] derive the following expres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DD97F-A1B7-483C-A7B5-5E834A87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2160" y="13032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Crowding Effect on Parasitic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4880" y="474192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0040" y="3841920"/>
            <a:ext cx="7688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current flows through a smaller width of conductor, this causes a reduction in the effective area  between the metal and substrate, hence there is a reduction in the total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859040" y="1133640"/>
            <a:ext cx="5200560" cy="2295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3487680" y="5029200"/>
            <a:ext cx="17575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69751-41A2-479A-9D72-A58B7C03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Coupling to 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51000" y="4186080"/>
            <a:ext cx="62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 loss due to capacitive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880" y="474192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4760" y="4381560"/>
            <a:ext cx="8456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77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7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tage at each point of the spiral rise and fall with time causing displacement current flow between this capacitance and substr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7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urrent causes loss and reduces the Q of the ind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504800" y="98568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8B1C6-6B70-4B44-BC9F-B96ED5E1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p of Basic Electromagnetic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04880" y="474192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0040" y="4440240"/>
            <a:ext cx="8913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nz's La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tates that the current induced by a magnetic field generates another magnetic field opposing the first fiel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040" y="3049560"/>
            <a:ext cx="8685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raday's La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tates that a time varying magnetic field induces a voltage and hence a current, if a voltage appears across a conducting mate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1840" y="1573200"/>
            <a:ext cx="86835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pere's La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tates that the current flowing through a conductor generates a magnetic field around the cond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748CC-9AAF-4FEB-B31E-27D4288A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Coupling to 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4880" y="474192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9680" y="3840120"/>
            <a:ext cx="82278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varying inductor current generates eddy current in the substr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z's law states that this current flows in the opposite dir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duction of eddy currents in the substrate can be viewed as transformer coup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433520" y="1168560"/>
            <a:ext cx="58863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 for On-Chip Integrated I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23A22-D18C-42BB-852A-638DCEF0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186080" y="339264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09520" y="3043080"/>
            <a:ext cx="48196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ond wires and package pins connecting chip to outside world may experience significant cou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1574640"/>
            <a:ext cx="8244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tion of off chip components   ---&gt;  Reduction of system c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ing issues of off-chip ind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2B61-A493-4A78-AA26-479E38F7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of Magnetic Coupling by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25600" y="477684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49200" y="1011240"/>
            <a:ext cx="4030560" cy="25732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4624560" y="963720"/>
            <a:ext cx="4062240" cy="200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1719360" y="5186520"/>
            <a:ext cx="5138640" cy="7570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2525760" y="3984480"/>
            <a:ext cx="3189240" cy="8161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5367240" y="2863800"/>
            <a:ext cx="24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Ms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44960" y="3295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sub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+ Ms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BCCB0-841B-46FF-BFDA-C81B4C57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Loss by Series or Parallel 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541600" y="1106640"/>
            <a:ext cx="3833640" cy="2057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685800" y="285264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stant series resistanc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el inductor loss for limited range of frequ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stant parallel resistan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inductor loss for narrow range of frequ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--&gt; The behavior of Q of inductor predicted by above two models has suggested opposite trends of Q with frequ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4320" y="184140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ω/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26360" y="1792440"/>
            <a:ext cx="17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p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8BB0-D9BF-4547-8A3A-2945E4B4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2160" y="13032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Loss by Both Series and Parallel Re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528920" y="963720"/>
            <a:ext cx="1515960" cy="1952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4197240" y="1108080"/>
            <a:ext cx="4184640" cy="20923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869000" y="3124080"/>
            <a:ext cx="3541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behavior of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9680" y="2865600"/>
            <a:ext cx="422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ing loss by both parallel and series res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3200400" y="37656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3186000" y="5054760"/>
            <a:ext cx="3429000" cy="888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46240" y="5259240"/>
            <a:ext cx="3541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Q of 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FCEA-FF8A-4ACA-B471-A262C20D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3800" y="23796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band Model of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956120" y="2959200"/>
            <a:ext cx="401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band skin effec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5880" y="2635200"/>
            <a:ext cx="2706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ban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542880" y="1146240"/>
            <a:ext cx="2622600" cy="15364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5292720" y="961920"/>
            <a:ext cx="3394080" cy="20462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506520" y="306864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ow frequencies current is uniformly distributed thorough the conductor and model reduces to 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|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|.....||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frequency increases the current moves away from the center of the conductor, as modeled by rising impedance of inductors in each bran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[9], a constant ratio of 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maintained to simplify the model. ( L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he impedance of cylinder j of conductor shown 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3103560" y="1247760"/>
            <a:ext cx="205740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53A9C-2EB2-4DDC-A495-15D64750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s of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04880" y="488484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177920" y="1790640"/>
            <a:ext cx="6594480" cy="18669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081080" y="4092480"/>
            <a:ext cx="731520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any resonant network to a parallel RLC tan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ping all of the loss in a single parallel resistance 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2922480" y="5076720"/>
            <a:ext cx="187812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E416D-3501-456E-B065-7A00D6A0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c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17600" y="5029200"/>
            <a:ext cx="801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" y="4346640"/>
            <a:ext cx="73152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l circuits can  employ a single symmetric inductor instead of two asymmetric inductors. It has two 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Sav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Differential geometry also exhibit higher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903240" y="988920"/>
            <a:ext cx="683280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C6F3A-9729-498E-AF14-A48BE97E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Lumped Interwinding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131840" y="1035000"/>
            <a:ext cx="6496200" cy="3537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6502320" y="4862520"/>
            <a:ext cx="2870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9200" y="4462560"/>
            <a:ext cx="8337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3 turn symmetrical inductor (b) equivalent structure (c) Voltage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9200" y="5181480"/>
            <a:ext cx="8337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nwind the structure as depicted above, assuming, an approximation, that all unit inductances are equal and so are all unit capaci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74C4-A5E3-4DB8-9075-2FF6A1B2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Lumped Interwinding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70680" y="3638520"/>
            <a:ext cx="2870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11720" y="3468600"/>
            <a:ext cx="2092320" cy="132552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6219720" y="3697200"/>
            <a:ext cx="1862280" cy="7606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4840" y="4944960"/>
            <a:ext cx="825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 lumped interwiding capacitance of a symmetrical inductor is typically much larger than capacitance of substrate, dominating self resonance frequ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2585880" y="1757520"/>
            <a:ext cx="3657600" cy="6858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28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nergy stored on the four capacitors is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2514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Denot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we hav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2538360" y="2992320"/>
            <a:ext cx="180504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2860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ence equivalent lumped capacitance is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3B24-54DF-4EE7-B0CD-11485860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rror/Step Symmetry of Single Ended Ind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53240" y="4970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54040" y="4979880"/>
            <a:ext cx="253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eq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–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9200" y="3849840"/>
            <a:ext cx="8337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inductors in a diff. pair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irror symmetry                      (b) Step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1757520" y="1143000"/>
            <a:ext cx="5576760" cy="274320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1287360" y="4871880"/>
            <a:ext cx="293364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62400" y="4981680"/>
            <a:ext cx="253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eq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95720" y="4873680"/>
            <a:ext cx="293400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0A1C-B561-4D5E-85E9-59474988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22160" y="309600"/>
            <a:ext cx="74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Coupling Along Axis of 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53240" y="4970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50760" y="4584600"/>
            <a:ext cx="76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l spiral inductor produces a magnetic field on axis of 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uch coupling in case of two single ended inductors on axis of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9200" y="3849840"/>
            <a:ext cx="8337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Single-ended inductor             (b) Symmetric 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1373040" y="944640"/>
            <a:ext cx="603432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Inducto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78281-CE48-4E18-AAB1-F10209AC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6720" y="914400"/>
            <a:ext cx="367668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mutual coupling between every two 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r inductance than straight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al is implemented on top metal layer to minimize parasitic resistance and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008680" y="1049400"/>
            <a:ext cx="3340080" cy="35830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143000" y="5257800"/>
            <a:ext cx="6858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BC1BF-943E-4A3A-A0AC-0F340363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93600"/>
            <a:ext cx="773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Inductor with Reduced Magnetic Coupling Along Axis of 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53240" y="4321080"/>
            <a:ext cx="2859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50760" y="4260960"/>
            <a:ext cx="76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ructure is more symmetric than single-ended spirals with step 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tic field of two halves cancel on axis of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lower Q than differential inductor because each half experiences its own substrate lo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1779480" y="1227240"/>
            <a:ext cx="580716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5F5E9-70B4-4059-A7DB-F3D1607ED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ors with Ground Sh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53240" y="378144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50760" y="3289320"/>
            <a:ext cx="76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ructure allows the displacement current to flow through the low resistance path to ground to  avoid electrical loss through subst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dy currents through a continuous shield drastically reduce inductance and Q, so a “patterned” shield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hield reduces the effect of capacitive coupling to 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dy currents of magnetic coupling still flows through subst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936800" y="1058760"/>
            <a:ext cx="50752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9F12-67FE-451D-90C3-2F6A39AF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ed Indu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16520" y="3962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9560" y="1986120"/>
            <a:ext cx="3105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2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  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4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3886200" y="998640"/>
            <a:ext cx="4572000" cy="26352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143000" y="45720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ly, N stacked spiral inductor operating in series raises total  inductance by a factor of  N</a:t>
            </a:r>
            <a:r>
              <a:rPr b="1" lang="en-US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C401-4C7F-44B4-9597-0818956C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Capacitance for a Stacked Induc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16520" y="3962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55720" y="464328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 to substrate and interwinding capacitance it also contains  another capacitance in between stacked spir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2971800" cy="11430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914400" y="1395360"/>
            <a:ext cx="3200400" cy="27194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572000" y="3706920"/>
            <a:ext cx="3944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inner spiral capacit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2B1DB-67D7-4FF5-BAE5-9227BFAB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457200" y="1420920"/>
            <a:ext cx="59436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207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ful function of transformer in RF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danc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and feedforward with positive and negative po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nded to differential conversion and vice-v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 coupling between s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207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375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CD746-3DE8-43D7-B223-B3FCF314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Well-Designed Transfor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636480" y="1241280"/>
            <a:ext cx="736452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series resistance in primary and secondary wi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magnetic coupling between primary and secondary wi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apacitive coupling between primary and secondary wi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parasitic capacitance to the 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18F2-0567-4866-97AD-AEBEA760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1081080" y="428472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s AB and CD are mutually coupled ind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and secondary are identical so this is 1:1 transfo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1658880" y="1074600"/>
            <a:ext cx="5884920" cy="23544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1668600" y="3324240"/>
            <a:ext cx="62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er derived from a symmetric 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14880" y="3979800"/>
            <a:ext cx="2409480" cy="363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68E1-F93B-4799-BECB-F12B1E0A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1303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Transformer Model and its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973160" y="939960"/>
            <a:ext cx="4800600" cy="25146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2801880" y="370692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2851200" y="5234040"/>
            <a:ext cx="3549600" cy="8301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66680" y="337032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former action g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6680" y="4844880"/>
            <a:ext cx="50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above two equations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1FDF1-E1D6-42CB-8AF4-4CF7FE2C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1303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Transformer Model and its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154400" y="34513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2719440" y="2070000"/>
            <a:ext cx="3224160" cy="6732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57200" y="137160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L at output node y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" y="3208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ing I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bove equation and simplifying the result, we obtain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1071720" y="4151160"/>
            <a:ext cx="6472080" cy="13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81E8B-10A5-4FF8-B02A-C45B7BD3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Impedance of Transformer Model with C</a:t>
            </a:r>
            <a:r>
              <a:rPr b="1" lang="en-US" sz="2400" spc="-1" strike="noStrike" baseline="-33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4478400" y="3809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3033720" y="4475160"/>
            <a:ext cx="2681280" cy="78264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4556160" y="2779560"/>
            <a:ext cx="2987640" cy="8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457200" y="1600200"/>
            <a:ext cx="62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ing C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0 in abov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52600" y="4643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Impedanc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960" y="287964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/output transfer function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ance of N Turn Spir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E648F-6CA8-40F8-AC6B-D7DE1208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3716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ance of an N-turn planar spiral structure inductor 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that limit the growth rate of an inductance of spiral inductor as function of 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ue to planar geometry the inner turns have smaller size and exhibit smaller induc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The mutual coupling factor is about 0.7 for adjacent turns hence contributing to lower induc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09680" y="1771560"/>
            <a:ext cx="196056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36DE2-9B1A-435A-ABC8-892A0FE3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r with Turn Ratio More than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16520" y="475452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4478400" y="3809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959280" y="220176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er mutual coupling fa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084320" y="1384200"/>
            <a:ext cx="2514600" cy="21178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4032360" y="4800600"/>
            <a:ext cx="419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er mutual coupling fa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1106640" y="4235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5120-7C49-4C26-8C21-ABBA22F5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ed Transfo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16520" y="446580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478400" y="3164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431640" y="309564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o One Stack transfor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15880" y="890640"/>
            <a:ext cx="7942320" cy="22986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3236760" y="31305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o two Stack transfor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535720" y="31305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ggering of turns to reduce capacitive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" y="3719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magnetic coup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ke planar structures, primary and secondary can be identical and symmetr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area is less than planar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r capacitive coupling compared to planar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74DBC-D5B5-4EA7-A22E-E97B5AEE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Coupling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637240" y="3673440"/>
            <a:ext cx="28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7920" y="3419640"/>
            <a:ext cx="82296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4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&gt;0, frequency response exhibit notch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ω 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4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&lt;0, no such notch exist and transformer can work at higher frequen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4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“non-inverting” transformer suffers from lower speed than “inverting” transfo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8480" y="1322280"/>
            <a:ext cx="42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nsfer function of transformer at s = j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681200" y="2486160"/>
            <a:ext cx="500688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DA81E-562E-43D7-93B0-B149D368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30960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1200" y="399420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complexity of this model it is very difficult to find the values of each component from measurement or field simul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1936800" y="1332000"/>
            <a:ext cx="51512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02ADF-BD59-485C-BCD1-61F9494A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85800" y="26496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Line as Ind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7920" y="424800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-Line having short circuit termination act as an inductor (if T-line is much smaller than the wavelength of sign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1828800" y="1384200"/>
            <a:ext cx="2425680" cy="273060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680000" y="234936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-Line serving as load i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1E92-977B-43A9-AC6D-A4AF72F7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5800" y="26496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Line as Impedance Transfor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" y="102384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-Line of length d, terminated with a load impedance of Z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hibit input impedance = Z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2106720" y="2529000"/>
            <a:ext cx="3608280" cy="82872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3525840" y="4464000"/>
            <a:ext cx="1731960" cy="4572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1461960" y="3852720"/>
            <a:ext cx="423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haracteristic impe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" y="44895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at d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4 th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" y="4994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e. a capacitive load transforms to inductive component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154400" y="3533760"/>
                <a:ext cx="7164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477720" y="3849840"/>
            <a:ext cx="1104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β=2π/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9956-49D1-40DE-90B6-671F89B7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85800" y="26496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Line Structures: Microstr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154400" y="3533760"/>
                <a:ext cx="7164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1828800" y="1030320"/>
            <a:ext cx="4897440" cy="338616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457200" y="441468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icrostrip structure, signal line realized in top-most metal layer and ground plane is in lower metal layer. Hence have minimum interaction between signal line and subst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AA14-56F1-4D7C-A4E8-76D94328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26496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Impedance of Micris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4299120" y="364176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493560" y="41623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-&gt; Above equation predict characteristic impedance with a large error (as large as 10%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2057400" y="2201760"/>
            <a:ext cx="4800600" cy="87804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2031840" y="3387600"/>
            <a:ext cx="2768760" cy="72720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698400" y="1227240"/>
            <a:ext cx="684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 impedance of microstrip, of signal line thickness 't' and height  'h' with respect to ground plane,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7297C-EF45-45FB-B7BF-F3358D64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'Q' of Lossy T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262400" y="3749760"/>
                <a:ext cx="7164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506520" y="1420920"/>
            <a:ext cx="4114800" cy="15508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4921200" y="1442880"/>
            <a:ext cx="3079800" cy="15289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346040" y="3944880"/>
            <a:ext cx="2864160" cy="16128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5110200" y="3849840"/>
            <a:ext cx="220500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9772-4C07-41F2-8141-B0DDD14A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Line Structures: Coplan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2070000" y="1035000"/>
            <a:ext cx="4800600" cy="274320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457200" y="3622680"/>
            <a:ext cx="8229600" cy="2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aracteristic impedance of the coplanar structure is higher than that of the microstrip b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Thickness of signal and ground lines are quite small,                  leading to  lower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Spacing between two lines can be small, further decreasing     the capacit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y of Inductor Effects Induc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D3514-D542-46FC-97A2-8B2C4A20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1371600"/>
            <a:ext cx="4800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wo dimensional square spiral inductor  is fully specified  by following four quant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Outer dimension, 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Line width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Line spacing,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Number of turn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437080" y="1214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491080" y="4513320"/>
            <a:ext cx="406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dimens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al i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3234-A06A-43DF-AC3B-EB916D29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Line Structures: Str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7200" y="3840120"/>
            <a:ext cx="8229600" cy="2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line structure consists of a signal line surrounded by ground pla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produces very little field leakage to surrou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aracteristic impedance of the stripline is smaller than both microstrip and coplanar stru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006640" y="944640"/>
            <a:ext cx="428616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32ECE-6D93-43EB-96C6-9EBAC55D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93800" y="6772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2240" y="1515960"/>
            <a:ext cx="82296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actor is a voltage-dependent capac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important attributes of varactor design become critical in oscillat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pacitance range i.e. ratio of maximum to minimum capacitance that varactor can prov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quality factor of the var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0A7B-4500-477E-A4F0-762E1263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N Junction Va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23960" y="3886200"/>
            <a:ext cx="774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actor capacitance of reversed-biased PN j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14400" y="1251000"/>
            <a:ext cx="2514600" cy="114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5005440" y="119232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33280" y="2570040"/>
            <a:ext cx="43387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182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apacitance at zero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2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 = Built-in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2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= exponent around 0.3 in integrate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047600" y="4714920"/>
            <a:ext cx="741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- Weak dependance of C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pon V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eca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d,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V ) C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,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j,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1.23 (Low range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345B5-3D0C-4140-A25F-20266D9B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actor Q Calcul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8640" y="4246560"/>
            <a:ext cx="75438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shown above, due to the two dimensional flow of current it is  difficult to compute the equivalent series resistance of the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well sheet resistance can not be directly applied to calculation of varactor series res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1022400" y="1143000"/>
            <a:ext cx="3500280" cy="239400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4835520" y="200808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of varactor is obtained by measurement on fabricate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to calculat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33480" y="3524400"/>
            <a:ext cx="455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istribution in va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B9A98-CECE-478E-AF4B-9A958140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 Varact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998640" y="4462560"/>
            <a:ext cx="76881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gular MOSFET exhibits a voltage dependent gate capac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n-monotonic behavior with respect to gate voltage limits the design flex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62000" y="3922560"/>
            <a:ext cx="567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 of gate capacitance with Vg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2135160" y="1611360"/>
            <a:ext cx="4326120" cy="238752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685800" y="1143000"/>
            <a:ext cx="56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MOS de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4A3E4-FF01-49D5-A8E4-76791CA1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mulation Mode MOS Va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788000" y="1216080"/>
            <a:ext cx="374004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mulation-mode MOS varactor is obtained by placing an NMOS inside an nwel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riation of capacitance with Vgs is monoton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/V characteristics scale well with scaling in techn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ke PN junction varactor this structure can operate with positive and negative bias so as to provide maximum tuning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1068480" y="1276200"/>
            <a:ext cx="3238560" cy="204480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1189080" y="3814920"/>
            <a:ext cx="2781360" cy="162540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495360" y="5715000"/>
            <a:ext cx="40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/V characteristics of varact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7E5AB-FDE2-4826-BBE0-D1B3478E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mulation Mode MOS Varactor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18160" y="1504800"/>
            <a:ext cx="374004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g &lt; V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etion region is formed under gate ox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 capacitance is the series combination of gate capacitance and depletion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g &gt; 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on of channel under gate ox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757080" y="1444680"/>
            <a:ext cx="3814920" cy="19843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85800" y="4272120"/>
            <a:ext cx="3657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79A31-9115-4B51-AB2F-906C1B6D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4520" y="15732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mulation Mode MOS Varactor: Curve Fitt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4520" y="3487680"/>
            <a:ext cx="784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, “V</a:t>
            </a:r>
            <a:r>
              <a:rPr b="1" lang="en-US" sz="2000" spc="-1" strike="noStrike" baseline="-33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and “a” allow fitting for the slope and the intercep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8640" y="1371600"/>
            <a:ext cx="407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ve fitting model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7200" y="3959280"/>
            <a:ext cx="8553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ove varactor model translates to different characteristics in different circuit simul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tools (HSPICE) that analyze circuits in terms of voltages and currents  interpret the above non-linear capacitance equation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420840" y="2057400"/>
            <a:ext cx="822960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DB494-E7DC-45DE-8858-26E77B21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7800" y="1573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mulation Mode MOS Varactor: Charge Equ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5360" y="1143000"/>
            <a:ext cx="40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ge equation model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1200" y="3816360"/>
            <a:ext cx="8553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79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tools ( Cadence Spectre)  that represent the behavior of capacitors by charge equations   interpret this charge equation model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520"/>
                <a:tab algn="l" pos="639720"/>
                <a:tab algn="l" pos="1096920"/>
                <a:tab algn="l" pos="1554120"/>
                <a:tab algn="l" pos="2011320"/>
                <a:tab algn="l" pos="2468520"/>
                <a:tab algn="l" pos="2925720"/>
                <a:tab algn="l" pos="3382920"/>
                <a:tab algn="l" pos="3840120"/>
                <a:tab algn="l" pos="4297320"/>
                <a:tab algn="l" pos="4754520"/>
                <a:tab algn="l" pos="5211720"/>
                <a:tab algn="l" pos="5668920"/>
                <a:tab algn="l" pos="6126120"/>
                <a:tab algn="l" pos="6583320"/>
                <a:tab algn="l" pos="7040520"/>
                <a:tab algn="l" pos="7497720"/>
                <a:tab algn="l" pos="7954920"/>
                <a:tab algn="l" pos="8412120"/>
                <a:tab algn="l" pos="886932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108000" y="2081160"/>
            <a:ext cx="89154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9A443-2999-4A82-9338-9A110233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of Accumulation mode MOS Va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" y="4387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42880" y="3956040"/>
            <a:ext cx="79153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of vara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by the resistance between source and drain termi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ly calculated by lumped model shown in abo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4635360" cy="279252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1143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0A618-8232-440D-A6FC-ACA9C762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960" y="454032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ing the width inevitably decreases the diameter of  inner turn, thus lowering their induc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cing between the legs reduces, hence their mutual inductance also de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49600" y="3792600"/>
            <a:ext cx="602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f doubling the line width of i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893960" y="1071720"/>
            <a:ext cx="4981680" cy="27432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081080" y="272880"/>
            <a:ext cx="701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Doubling Line Width of Indu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8F8A-14D8-4501-8CF8-560BD7FF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520" y="85680"/>
            <a:ext cx="7735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of Equivalent Resistance and Capacitance Value in Lump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5800" y="4387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5800" y="949320"/>
            <a:ext cx="7835760" cy="358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76520" y="2622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Mode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" y="4200480"/>
            <a:ext cx="4572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 structure for half circui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280120" y="4186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onical T-lin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5457960" y="5437080"/>
            <a:ext cx="2743200" cy="6858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85920" y="4560840"/>
            <a:ext cx="8072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quivalent structure above resembles a transmission line consisting of series resistances and parallel capacitances. For general T-line structure the input impedance is 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5474-8DD8-4B26-8F38-32F2099D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520" y="85680"/>
            <a:ext cx="7735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of Equivalent Resistance and Capacitance Value in Lump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5800" y="4387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7200" y="1120680"/>
            <a:ext cx="800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pecified for unit length and d is the length of line and from above equivalent structu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=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=s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frequencies well below 1/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4), the argument of tanh is much less than unity, allowing the approxim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971800" cy="76212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457200" y="3214800"/>
            <a:ext cx="4572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follows tha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" y="4259160"/>
            <a:ext cx="800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umped model of half of the structure consists of its distributed capacitance in series with 1/3 of its distributed resistance. Accounting for the gray half in equivalent circuit of half structure, we obtain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2"/>
          <a:stretch/>
        </p:blipFill>
        <p:spPr>
          <a:xfrm>
            <a:off x="3022560" y="5486400"/>
            <a:ext cx="2994120" cy="83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4264200" y="3271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7523280" y="3200400"/>
            <a:ext cx="976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0058400" y="320040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73880" y="2660760"/>
            <a:ext cx="24051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(1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3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BCD3B-352E-482F-9C43-AE6B8C0C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4520" y="301680"/>
            <a:ext cx="773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of MOS Varactor Q with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57400" y="3164040"/>
            <a:ext cx="5715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 of varactor Q with capacitan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85800" y="38257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min, the capacitance is small and resistance i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max, the capacitance is large and resistance is sm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ve comments suggest that Q remains relatively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actice, Q drops as we increase cap from Cmin to Cmax, suggesting that relative rise in capacitance is greater than fall in res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1828800" y="950760"/>
            <a:ext cx="5715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9BA5B-4E1B-46F0-BC12-6D26DCBB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3520" y="158760"/>
            <a:ext cx="7893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Overlap Capacitance on Capacitanc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41497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 capacitance is relatively voltage independ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 capacitance shifts the C/V characteristics up, yielding a ratio o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ma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2W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o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/(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m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2WC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Arial"/>
              </a:rPr>
              <a:t>o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181E-CA42-4AA6-BC0C-4644A6011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Capac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14400" y="13716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 circuits employ constant capacitors for various purpo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just the resonance frequency of LC ta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vide coupling between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ypass the  supply rail to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914400" y="34956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parameters of capacitors used in RF IC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nce den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sitic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of the capac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A0A86-F82C-43A1-B1EB-5C900F2E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 Capacitor: Usag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92840" y="1960560"/>
            <a:ext cx="364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capacitor used as coupling de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806400" y="1247760"/>
            <a:ext cx="3710160" cy="242244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525600" y="3565440"/>
            <a:ext cx="4395600" cy="243864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5102280" y="4572000"/>
            <a:ext cx="341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capacitor used as bypass capac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5839-474D-4C0F-AF76-2783A4756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 Capacitor: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343400" y="3862440"/>
            <a:ext cx="4114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capacitor realiz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hort fingers hav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715000" y="954000"/>
            <a:ext cx="2286000" cy="2824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457200" y="3079800"/>
            <a:ext cx="3030480" cy="312732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457200" y="890640"/>
            <a:ext cx="531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capacitor realiz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long  finger having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744480" y="1720800"/>
            <a:ext cx="3370320" cy="8701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4"/>
          <a:stretch/>
        </p:blipFill>
        <p:spPr>
          <a:xfrm>
            <a:off x="4356000" y="5064120"/>
            <a:ext cx="3657600" cy="9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CBAE1-35F7-421E-B5C1-F1DB5256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 Plate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3400" y="4800600"/>
            <a:ext cx="716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plate capaci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ructure employs planes in different metal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3465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9A796-B602-4B7A-B194-6EEC4AD9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 Plate Capacitor: Bottom Plate Parasi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406520" y="4430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plate capacitor geometry suffers from bottom plate parasitic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apacitance reaches upto 10% of actual capacitance, leading to serious difficulty in circui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2484360" y="1179360"/>
            <a:ext cx="4456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EA0A-21B5-4697-80A8-2DBB895D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nge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06520" y="4502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nge capacitor consists of narrow metal lines with minimum spac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teral electric field between adjacent metal lines leads to a high capacitance dens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1905120" y="1515960"/>
            <a:ext cx="5715000" cy="22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80FB-4A56-46B2-8A49-E4EEDD19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880" y="500688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tained from electromagnetic field sim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4187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pling factor b/w 2 straight metal lines as a function of their         normalized 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3800" y="272880"/>
            <a:ext cx="701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Coupling Factor P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743200" y="1320840"/>
            <a:ext cx="365760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695A1-9754-4E09-A3A4-A5BBFC02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480960" y="998640"/>
            <a:ext cx="8229600" cy="274320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480960" y="3862440"/>
            <a:ext cx="820584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0AE4-2F9E-4CFC-A03C-5AF0C768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299880" y="1227240"/>
            <a:ext cx="8686800" cy="228600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2"/>
          <a:stretch/>
        </p:blipFill>
        <p:spPr>
          <a:xfrm>
            <a:off x="264960" y="3586320"/>
            <a:ext cx="8686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85800" y="6292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553080" y="6292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0DA31-8000-45FE-BBEE-C471AF64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19120" y="5486400"/>
            <a:ext cx="83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7800" y="30168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98480" y="6969240"/>
            <a:ext cx="7815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1440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312840" y="1035000"/>
            <a:ext cx="8458200" cy="36576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24000" y="4692600"/>
            <a:ext cx="866268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77209-7006-4CD7-8991-EB3C40BB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27288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or Structures Encountered in RFIC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6480" y="914400"/>
            <a:ext cx="7710480" cy="3174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4621320" y="2057400"/>
            <a:ext cx="180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54960" y="2055960"/>
            <a:ext cx="150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09800" y="3935520"/>
            <a:ext cx="180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29000" y="3970440"/>
            <a:ext cx="35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ounded sh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16800" y="389880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Spi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1880" y="2079720"/>
            <a:ext cx="180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4840" y="4248000"/>
            <a:ext cx="856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76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inductor geometries shown above are result of improving the trade-offs in inductor design, specifically those betw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quality factor and the capaci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ductance and the dimen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→ These various inductor geometries provide additional degrees of freedom but also complicate the modeling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76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1080"/>
                <a:tab algn="l" pos="638280"/>
                <a:tab algn="l" pos="1095480"/>
                <a:tab algn="l" pos="1552680"/>
                <a:tab algn="l" pos="2009880"/>
                <a:tab algn="l" pos="2467080"/>
                <a:tab algn="l" pos="2924280"/>
                <a:tab algn="l" pos="3381480"/>
                <a:tab algn="l" pos="3838680"/>
                <a:tab algn="l" pos="4295880"/>
                <a:tab algn="l" pos="4753080"/>
                <a:tab algn="l" pos="5210280"/>
                <a:tab algn="l" pos="5667480"/>
                <a:tab algn="l" pos="6124680"/>
                <a:tab algn="l" pos="6581880"/>
                <a:tab algn="l" pos="7039080"/>
                <a:tab algn="l" pos="7496280"/>
                <a:tab algn="l" pos="7953480"/>
                <a:tab algn="l" pos="8410680"/>
                <a:tab algn="l" pos="8867880"/>
                <a:tab algn="l" pos="9325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0948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 7 Pass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F103E-9600-4DF8-B9C2-6A5D82B2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5880" y="5187960"/>
            <a:ext cx="8350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7288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anc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6800" y="1370160"/>
            <a:ext cx="8190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d form inductance equations can be found based 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Curve fitting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Physical properties of ind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expressions have been reported in literature [1,2,3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989000" y="3130560"/>
            <a:ext cx="4869000" cy="9842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5800" y="4935600"/>
            <a:ext cx="7772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quation above is an empirical formula which estimates inductance of  5nH to 50nH square spiral inductor within 10%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4179960"/>
            <a:ext cx="7772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33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Metal area ,  A</a:t>
            </a:r>
            <a:r>
              <a:rPr b="0" i="1" lang="en-US" sz="2000" spc="-1" strike="noStrike" baseline="-33000">
                <a:solidFill>
                  <a:srgbClr val="000000"/>
                </a:solidFill>
                <a:latin typeface="Arial"/>
              </a:rPr>
              <a:t>to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Total Inductor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ng</dc:creator>
  <dc:description/>
  <dc:language>en-US</dc:language>
  <cp:lastModifiedBy>Behzad Razavi</cp:lastModifiedBy>
  <cp:lastPrinted>2011-08-11T19:33:56Z</cp:lastPrinted>
  <dcterms:modified xsi:type="dcterms:W3CDTF">2011-08-12T16:17:16Z</dcterms:modified>
  <cp:revision>788</cp:revision>
  <dc:subject/>
  <dc:title>PowerPoint Presentation</dc:title>
</cp:coreProperties>
</file>